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ABC-D931-40B8-9BD1-DE10814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C00-B0E9-4635-B815-4F84036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7AB-F413-460F-AB30-72D650A5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72F-A513-4608-AB0A-43B5F873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1FB-8A49-4AA8-8090-09B77B9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E62-B9E2-4D93-ACE0-1F74C279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39A-6D08-4D0E-BDED-6768D203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5FE-55F4-445C-AAF5-473A1616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730-5D2E-4571-89A6-0C1E7A6F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E74-9F09-451C-9B2D-711C692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12E-00F8-43E7-99D2-70612A6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212-F5D2-4288-986F-CCE98594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81F52-6224-48DC-8FCA-12F96B4E2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66720"/>
            <a:ext cx="8686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s tehtud kiirülevaade erinevatest mitteklassikalistest loogika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aal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uitsionist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ault loogika j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pisteemi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ud seonduvat: prograkeeled, sem veeb, konkreetsed loogikakee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Tam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onkreetsed loogikake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&amp; b =&gt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ksisteerib y . P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ritused teha konkreetseid loogikake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+3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i paised ja include jne, kuidas t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s ja kuidas teha xml synt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aalsed loogik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alsed loogikad:  on voimalik &lt;&gt;, kindlasti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(   hillary clinton on usa presiden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=&gt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siniku aatom sisaldab yhte prooto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&gt; hillary clinton on us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&gt; 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   p=&gt;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    vesiniku aatom sisaldab yhte prooto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uitsionistlik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e kysimu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latooniline tõde on (klassikaline loogika, matemaa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oreem T on lah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yritakse toestada T   (vedas, leidsime toestuse Tto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yritatakse toestada no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latoonilist tõde ei ole (konstruktivis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oesus on meie oma konstruktsioon, ise loome, ehitades toestusi. Ttoest konstrueerida: alles siis saame oelda, et T on to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i saa oelda, et suvalise P jaoks kehtib P v –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- - P)  = P       (( (A = &gt; B) =&gt; A) =&gt;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&gt; A,  A &amp; B =&gt;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nstruktiivne matemaatika on laiem moiste kui intuitsionistlik loog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nstruktiivsus on mittedefineeri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uitsionismi na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 =&gt;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&gt; A :   lambda x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=&gt;A) =&gt; A :  lambda f .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&gt; ((A=&gt;B) =&gt; B) : lambda x . Lambda f. f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 &amp; str =&gt; str:  lambda x. secon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kpair(1,3)     first 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ikalisel pred arvutusel on domeen ja funkts ning predikaatide interpretatsioo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 on intuitsion toestatav =&gt; T on klassikaliselt o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eaar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ding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llar lahed automaadi juu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ed dollari s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 kas koka voi f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ad valitud a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llarit enam ei 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 kehti: 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&amp;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&amp; (A=&gt;B)  =&gt; B                                 A &amp; A &amp; .... &amp; 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ed ressursid on piirama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Vesi &amp; tablett =&gt; !vesi &amp; j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himotteline jao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harilikud loogikad on sellise omaduse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ui D =&gt; G, siis A &amp; D =&gt;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ault loogika, episteem. Loog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      :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d(x)  :  ei saa jareldada -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pisteemili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kumis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dmist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(12, “eksisteerib y . C(y)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a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grakeelte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mbda-arvutuse pohi (kombinatoorne loog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umuutmise pohine seman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ntilise veebi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f ja xml namespaced, owl, jne 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alutl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mebaas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tsiaalsed kysimused (eristada asju yldkasutatavate nimedega, a la xml namespaced), kuidas asju uridega kode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dused reeglisysteemid a la ekspertsystee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gikapohised kaalutl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/>
  <cp:revision>0</cp:revision>
  <dc:subject/>
  <dc:title/>
</cp:coreProperties>
</file>